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0FE-253A-4014-807F-D9C66A6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644-5FF9-4CF6-B93E-085E840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66B-FC58-41BB-94F3-E1EFDD15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65E-F7FD-45C9-A4A9-FB8C8A44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613-F377-4624-B9A9-C50A139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F74-5DFC-4D7E-8C65-43F5EE7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A53-5262-4422-986B-3A9814E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464-4889-4C35-8E03-7A2B9C1D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A83-168C-491D-AD71-80865828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1B7-6681-42BC-8230-D9B2599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A16-6108-4D0E-B6DF-0C8DBED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249-47DB-4A33-A19C-6E7F662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anuary 25th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05 CE Linux Forum Technical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775F-45A4-4C2F-8257-0D01B12560F1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52280"/>
            <a:ext cx="5257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610480" cy="18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37000"/>
            <a:ext cx="89917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otup Time Working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 Bird, Ch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A0E-A719-49EE-9746-542427E1DA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nel X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kernel directly from fla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know current status in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635-3D02-4DAE-87FC-306D193EC9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X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applications and libraries directly from 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MFS-linear patch – what is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C script speedu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brary preli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624-D2D3-4AD2-916A-25053AB54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ross-platform API for timing measuremen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were completed on x86 and P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was never submitted to LK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needs to be tested and compared with sched_clo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F1E-5DF1-436A-BD94-D703E90C3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tk-ti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.k.a Instrumented Print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iming information on each printk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on any platform supporting sched_clock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ubmit to LK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add printks at key init check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pionts were identified in Ap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C14-6F87-4C48-BFC8-CD14BB983C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ime and duration of each kerne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on any platform supporting sched_clo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urrently being exte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med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ex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 fs output (eliminating need for user-space t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ubmit to LK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want additional post-processing tool to show different trac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5DD-9705-465F-8700-4972E19B33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Pre-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pplications to shared libraries ahead of run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prototype system to meas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 script speed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fork cost and improve use of busybox builtin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ybox patch needs to be submitted to busybox mailing list for com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8D4-366D-4534-9C13-2D7942D4D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find drivers with spare (busywait)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dentify prototype mechanism for overlapping driver init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ystem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 initial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find spots that might be impr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018-9DDC-4E50-BEA4-718DB18B7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112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990720"/>
          <a:ext cx="7848360" cy="4502160"/>
        </p:xfrm>
        <a:graphic>
          <a:graphicData uri="http://schemas.openxmlformats.org/drawingml/2006/table">
            <a:tbl>
              <a:tblPr/>
              <a:tblGrid>
                <a:gridCol w="1981080"/>
                <a:gridCol w="838080"/>
                <a:gridCol w="762120"/>
                <a:gridCol w="990720"/>
                <a:gridCol w="838080"/>
                <a:gridCol w="914400"/>
                <a:gridCol w="685800"/>
                <a:gridCol w="838080"/>
              </a:tblGrid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F Im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 Im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brate delay/Preset-LP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-nopro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IDE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el X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tion X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 A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W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k-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C no-sy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 script speed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urrent I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and Safe Shutd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e system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linking/lazy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105520" y="213372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236232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321300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378936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00536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515772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350028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286-4377-414C-B1AD-92F8AE353302}" type="slidenum">
              <a:t>1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e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oru Wakabayashi – Hita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m Gadiraju –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yoyasu Maruyama – Mistubi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d Poynor – Monta V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shinori Nagai – Sh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ird – S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isuke Yasui - Toshi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8C9-6212-470D-B1E3-ED046A852A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362320"/>
            <a:ext cx="8610840" cy="2361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77320" y="22096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800600"/>
            <a:ext cx="8610840" cy="144792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2361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590920"/>
            <a:ext cx="220968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ed print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72428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58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60680" y="17938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0600" y="1828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2560" y="18288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1520" y="18288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2096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2096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2096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952880"/>
            <a:ext cx="2286000" cy="1067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X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C Script Spee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Pre-l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90920"/>
            <a:ext cx="228600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t L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 Pree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 no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 fast pr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 no-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952880"/>
            <a:ext cx="228600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and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System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590920"/>
            <a:ext cx="152424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 X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952880"/>
            <a:ext cx="15242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X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952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04F-3B9E-45F5-96B6-B7CB65022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ches for Bootup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981080"/>
          <a:ext cx="8280360" cy="41673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el XIP (CRAMFS-line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t-LPJ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ainline (since 2.6.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IDE delay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8-rc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C nosyn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x86: 2.6.7, ppc:2.6.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k-ti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el Function Instrumen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ux Trace Toolk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10 and 2.6.11–m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5C6-4569-4E4D-93D3-DC35D26AB5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atches are being main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ssistance extending/maintaining patches for other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activity has fallen off, du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to 2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ziness by WG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estart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601-30DD-4A0D-A176-D61A48C116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instrumentation tools (printk-times, KFI, LTT) on other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existing patches to LK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user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l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256-46F7-4E79-9595-0E1E92F7D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Implem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842-D848-445A-B933-F004C670C0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IDE 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 init code delays over 70 times during star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ch changes IDE delay from 50 milliseconds to 5 milli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ch was submitted to LKML in August, but rej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termine reason for so many calls to delay during IDE i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lls to delay can be avoided using IDE “noprobe” on the kernel command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evaluate risks of short ID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1F7-D350-4652-B725-A2471ABA3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-no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 “noprobe” option on kernel command line allows skipping some IDE probing during i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is sometimes disabled (overridden) by PCI init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true in 2.4,we need to confirm this behaviour in 2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out why noprobe is being overrid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ch is a quick hack to identify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sk LKML about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60F-4BA6-47B4-9658-01CCFD1FA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C No-sy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ynchronization with RTC clock edge during first load of system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atches for x86 and P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86 patch was submitted – apparently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submi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F6D-ECD5-414F-81D5-8A18D184A0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Tim Bird</cp:lastModifiedBy>
  <dcterms:modified xsi:type="dcterms:W3CDTF">2005-01-28T22:25:00Z</dcterms:modified>
  <cp:revision>364</cp:revision>
  <dc:subject/>
  <dc:title>PowerPoint Presentation</dc:title>
</cp:coreProperties>
</file>